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82A2D-7B4E-4718-B82C-929F46E9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BBC0-7179-45D7-BCA7-98615A8F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5E3D-4A41-425F-B682-2271CA4D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FB6D-848C-4F5D-BFDA-1AD4FFE3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E0C4-5E10-4672-8676-5C76B8EF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2EC9-50DE-4F8D-AEC7-9B2DEC21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6377-A564-4897-84D9-E8F8739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7C2F-2385-4BF4-80EF-7C22869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B3F5-3AE9-476A-BDB5-8B80C4EF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58A2-1BED-43AF-BB74-134EA00C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C80-20B6-48DF-B478-50D63DCA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0594-1F55-485F-B972-8485B3EB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3614-0B09-4749-BA29-D38D4B20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5063-A36E-49B2-8E7B-B7B514E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D90D-1ECE-4A16-8E24-3BFFA88C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306-525D-4D1D-8585-571A4F97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D767-825E-4B0D-BDCE-19687DF2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18657-9750-4F04-91B6-7921F024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303E7-E435-48EE-81EB-06B111D2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0206D-1113-441E-9546-4A247A36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F2946-9B24-4716-A82D-6015C6A5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3ED66-1303-441E-9320-3218FD58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9FDD-BF67-4739-BEC2-85BC5A4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04ED3-BC53-4D66-84B3-D2C8AE8F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0FFD5-0AAC-49E3-8D7C-E2C19D2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EB709-A4B0-40E9-B291-4396D4EE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728B38-8B00-4D52-B149-27D3B48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524BE-88D4-453E-964C-D4BF4F49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0E32E-89A6-4FAA-9C11-711EB715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CD957-55F6-42C7-821B-6657504B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980BD-8422-4EBF-A95B-79B62CC5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5A83-D839-4773-9333-4FDE27EC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29136-44E6-4D50-832D-2D171726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9F5B4-2F65-44DC-B8E3-285B3E7B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C823-BA42-430F-AC84-61353108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48D49-4D80-4B75-A3EF-628887B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F3D9-4072-4616-8E13-15154BB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8B33-86C7-4FE1-9934-8D8B456A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7D8DF-E640-4A62-B34B-17BA3636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E6B6C-DBB5-4BFD-9D02-1D6E1CC3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3C0A-ED01-4849-ADAE-5B4DB80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0AFBC-1E59-4140-B80C-E5FE7352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23E87-9575-4E60-A6CD-DADB8F73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21238-64FA-4CEA-B334-E3614581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2A3E-81A8-40DC-B35D-384F63E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290CC-4C3D-4BEC-9F7E-558BEA15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6BAB-84CC-4C86-8F8F-96B27F76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A36BF-C08B-40F0-A725-366F2386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7FBD5-6B28-4AA2-A76C-A56D364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574E2-2742-41B8-B59B-437AF58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A9D8A-AA9A-40FE-B640-2283649E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FF4EC-C49E-44E3-B296-00AA44F4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253D-E47F-4766-8CC2-D663FBD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F78B-912C-4CD5-AB41-870A48C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3DB1-77E5-4D56-8738-7312618C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04C0-9092-446D-BDDA-1E3B417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6905-826B-4EDC-8021-2D189833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387E-70ED-4FEA-A572-6C946D1B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C6356-6757-4D73-9365-33B1DBB8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D8E45-BC56-480A-A727-F1D8106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05716-34EC-4331-B813-F7576E21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0D72F-56EB-466E-A6FD-9664B86E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6778-E3A2-450D-B411-ED10337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D1251-7159-43F0-B042-F693327A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61FD-5631-4DEF-8B0B-C70F4946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83DC-C50B-4486-AAF5-02876008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8132-AF49-4007-8EF3-8230F522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B2702-E282-49CC-A947-062C1497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AE905-CDF9-44B9-9074-AE0F7031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51AF5-250A-4BE6-8309-54DD16BE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0C93-C243-4D80-9DE3-F20CD46C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CF726-A458-46BF-80A0-6088704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9329-B554-4597-94F8-FAD41CB43D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D738-65F9-44F1-96B8-EC32BDE018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79C3-A83C-4C48-BA3A-F57C4D9E17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1BC1-3D57-4C80-AC0D-6C711471CA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21C5-04A9-44EA-BF93-5972014B2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815F-6FDB-44BA-B20C-4941D9CD6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three branches of governmen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three branches of government are the Legislative, Judicial, and Executive branch.  They all can make sure that one doesn't get to powerful with a system called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Checks and  balan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re checks and bal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cks and balances is a system that lets the branches check each other to make sure the other two don’t get to much po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Bran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hen congress makes a law the president can veto it but congress can override the veto if two thirds of representatives from both the houses agree to the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n they can pass the law as long as supreme court  says its constitut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bran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"/>
              </a:rPr>
              <a:t>The most Extreme method congress uses is to remove the president from office in a process called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mpeach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o do this congress has to the charge the president for a serious cr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senate then makes a trial if two thi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3:12Z</dcterms:created>
  <dc:creator>Kenneth.Perinchief</dc:creator>
  <dc:description/>
  <dc:language>en-US</dc:language>
  <cp:lastModifiedBy>Kenneth.Perinchief</cp:lastModifiedBy>
  <dcterms:modified xsi:type="dcterms:W3CDTF">2008-04-25T17:06:10Z</dcterms:modified>
  <cp:revision>3</cp:revision>
  <dc:subject/>
  <dc:title>The three branches of government</dc:title>
</cp:coreProperties>
</file>